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C0A-5250-4F5C-9820-7DA8FDA5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E93-8F19-4F1D-9974-06291BF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657-03E8-4A5F-8A2B-76DD4948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0BA-B03D-44F9-B9BA-9E412F16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DB7-2923-489D-AA57-0AB55017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DC0-C537-4477-BCEF-A9B3FF18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357-81F5-4713-B073-212868AE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2AB-7E17-4AC8-BD91-94151843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843-821B-4072-9CE6-6CFBC284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21F-28F9-4402-A66F-E02C665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EB3-4181-47EA-89FA-D5A55F02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3D9-CDF4-47E9-BCEC-CF88A0F4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8742-963F-487F-A982-4354F6F10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50states.com/rhodeisland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hyperlink" Target="http://bensguide.gpo.gov/3-5/state/rhodeisland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ostcardsfrom.com/t1/971114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30492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hode Island</a:t>
            </a:r>
            <a:endParaRPr b="0" lang="en-US" sz="1800" spc="1" strike="noStrike">
              <a:ln w="63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257800" y="487692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90920" y="5181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5638680"/>
            <a:ext cx="198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hode Island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/7/20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50states.com/rhode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Name: 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Capital: Pro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: 1,048,3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ed the Union: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5/29/17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to: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name: The Ocea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: Vio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: Rhode Island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: Rhode Island, It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Behind Name: From the Greek Island of R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1422360" cy="166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38880" y="46483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876920" y="4343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s: Flag means symbol of authority, Rhode Island is the smallest state in America ,there mineral is Bowenite, and there rock is cumberland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58316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90920" y="6545160"/>
            <a:ext cx="46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Rhode Island: Map and State Flag"/>
          <p:cNvPicPr/>
          <p:nvPr/>
        </p:nvPicPr>
        <p:blipFill>
          <a:blip r:embed="rId2"/>
          <a:srcRect l="5130" t="47545" r="5130" b="0"/>
          <a:stretch/>
        </p:blipFill>
        <p:spPr>
          <a:xfrm>
            <a:off x="5181480" y="304920"/>
            <a:ext cx="37339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Rhode Island: Map and State Flag"/>
          <p:cNvPicPr/>
          <p:nvPr/>
        </p:nvPicPr>
        <p:blipFill>
          <a:blip r:embed="rId3"/>
          <a:srcRect l="0" t="0" r="0" b="62133"/>
          <a:stretch/>
        </p:blipFill>
        <p:spPr>
          <a:xfrm>
            <a:off x="380880" y="2286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5867280"/>
            <a:ext cx="853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Rhode Island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ember 22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rhodeislan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"/>
          <p:cNvPicPr/>
          <p:nvPr/>
        </p:nvPicPr>
        <p:blipFill>
          <a:blip r:embed="rId1"/>
          <a:srcRect l="3333" t="4862" r="3333" b="13238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5867280"/>
            <a:ext cx="6096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amestown, RI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9/23/2010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7111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80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ves are beautiful when th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the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0:17Z</dcterms:created>
  <dc:creator>install</dc:creator>
  <dc:description/>
  <dc:language>en-US</dc:language>
  <cp:lastModifiedBy>install</cp:lastModifiedBy>
  <dcterms:modified xsi:type="dcterms:W3CDTF">2010-10-14T13:19:44Z</dcterms:modified>
  <cp:revision>11</cp:revision>
  <dc:subject/>
  <dc:title>Slide 1</dc:title>
</cp:coreProperties>
</file>